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4C96-B150-42EE-9C5D-48172F6ACD3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6B9-21CA-49D6-898A-8506A4CF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5C6-8AEB-49DB-9FFD-E6FB1824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88A-D131-449C-9A41-383860BC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B89-4B50-448F-934B-D18A60CC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3522-40E9-42EB-B2C1-D50EECC0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6008-2D80-4CA3-A052-BC2CFE1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A3A1-78D0-439A-8C1C-81CC067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3A3A-0118-47CB-96F9-16122780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A3B9-DE78-46C2-B03C-44405717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615A-8D36-4959-8DBA-897D00F9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FE6C-35FF-4E4B-8648-5FA8F4D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673-653D-40B8-9417-BAF7FEFB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291E-5DBB-49F8-9DCB-B3E9D01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27B-8356-42D8-834F-6498020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9FAB-1A16-40AD-845D-AEE7DED9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B7D4-6C00-478F-A523-6D504241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63F-BEC5-46BC-BD68-5E6CD9BC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E9B-0D58-4234-8584-A0EED87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82E-DFE4-4DD2-83A6-714DA349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F12-2F38-4788-96BD-EB73641B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857-7571-43C4-A229-3C49B175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2DB-410E-4FC4-AAC9-62920325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DF5-8D6C-494A-B366-C458796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DAC-AF27-4E3C-9069-D5325FB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8F3-74F5-4E0A-ABCE-BDAA07DCC6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D8BE-A645-4B34-8AC7-D74E94E753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e: Resumen de algunos elementos traza particularmente útiles en petrología I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e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6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incompatibles que subsitutyen K en K-felds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120" y="3317760"/>
            <a:ext cx="59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menos fácilmente en Hb que en K-felds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080" y="3852720"/>
            <a:ext cx="638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K-f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0-03T05:16:58Z</dcterms:modified>
  <cp:revision>1</cp:revision>
  <dc:subject/>
  <dc:title>Diapositiva 1</dc:title>
</cp:coreProperties>
</file>